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3DA4-8735-4236-B408-7D572F5D6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0BC4-41DC-4E46-9238-A61D7182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BEE9-C390-42AA-99C0-4D2850969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14BF-C2F1-4044-A98F-0F021F40E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8A26-52CA-4C02-9114-9902FCC4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6984-279D-48DA-9C63-23E623E3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949F-4A0F-49AC-8014-518C45CE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1F32-D769-478F-B445-C87621C3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2728-0DD7-4110-9E56-CFE7191E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ED66-78D2-4945-AD4D-137D92AB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3104-3EEE-48F2-8C21-3FA56B00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CDC0-B22B-43B8-9BAF-D648DD59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F604-4402-4ED2-887C-09BC78C161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611280" y="765000"/>
            <a:ext cx="453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4067280" y="2133720"/>
            <a:ext cx="93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716360" y="3213000"/>
            <a:ext cx="230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Fun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781cb371d30414592581a814d8f2e19b"/>
          <p:cNvPicPr/>
          <p:nvPr/>
        </p:nvPicPr>
        <p:blipFill>
          <a:blip r:embed="rId2"/>
          <a:stretch/>
        </p:blipFill>
        <p:spPr>
          <a:xfrm>
            <a:off x="900000" y="3213000"/>
            <a:ext cx="252108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1187280" y="3068640"/>
            <a:ext cx="6624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wn   brown   down   o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rl    bird    first   di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  brother   with    th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ir  lunch   teacher   chu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ght   night   right  lig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0a3a45fee7de5a13cc3e5c559788664f"/>
          <p:cNvPicPr/>
          <p:nvPr/>
        </p:nvPicPr>
        <p:blipFill>
          <a:blip r:embed="rId1"/>
          <a:stretch/>
        </p:blipFill>
        <p:spPr>
          <a:xfrm>
            <a:off x="6443640" y="404640"/>
            <a:ext cx="1866960" cy="19400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755640" y="333360"/>
            <a:ext cx="4248000" cy="1630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Let’s reme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sound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187280" y="1052640"/>
            <a:ext cx="352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99"/>
                </a:solidFill>
                <a:latin typeface="Arial"/>
              </a:rPr>
              <a:t>Let’s read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57e86d5511667edc9f0bce7852a59cc0"/>
          <p:cNvPicPr/>
          <p:nvPr/>
        </p:nvPicPr>
        <p:blipFill>
          <a:blip r:embed="rId1"/>
          <a:stretch/>
        </p:blipFill>
        <p:spPr>
          <a:xfrm>
            <a:off x="5867280" y="404640"/>
            <a:ext cx="2232000" cy="22323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826920" y="3068640"/>
            <a:ext cx="684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lackboard, plant, desk, teacher’s table, listen, ask questions, learn by heart, translate, retell, write, read, draw, count, copy, sing songs, dictionary, ruler, paints, text book, pencil, rubber, pen, felt-tip pen, ba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332000" y="620640"/>
            <a:ext cx="41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Let’s speak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9567674cabbaea15b9adc4492521bcf4"/>
          <p:cNvPicPr/>
          <p:nvPr/>
        </p:nvPicPr>
        <p:blipFill>
          <a:blip r:embed="rId1"/>
          <a:stretch/>
        </p:blipFill>
        <p:spPr>
          <a:xfrm>
            <a:off x="6443640" y="404640"/>
            <a:ext cx="1938240" cy="193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1763640" y="3284640"/>
          <a:ext cx="5905440" cy="2228760"/>
        </p:xfrm>
        <a:graphic>
          <a:graphicData uri="http://schemas.openxmlformats.org/drawingml/2006/table">
            <a:tbl>
              <a:tblPr/>
              <a:tblGrid>
                <a:gridCol w="1968480"/>
                <a:gridCol w="1968480"/>
                <a:gridCol w="19684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gl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itera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th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r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ic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. E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36"/>
          <p:cNvSpPr/>
          <p:nvPr/>
        </p:nvSpPr>
        <p:spPr>
          <a:xfrm>
            <a:off x="324000" y="249228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8000"/>
                </a:solidFill>
                <a:latin typeface="Arial"/>
              </a:rPr>
              <a:t>What do you usually do at the lessons</a:t>
            </a:r>
            <a:r>
              <a:rPr b="0" i="1" lang="ru-RU" sz="36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9"/>
          <p:cNvSpPr/>
          <p:nvPr/>
        </p:nvSpPr>
        <p:spPr>
          <a:xfrm>
            <a:off x="611280" y="573408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We usual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1" descr="is"/>
          <p:cNvPicPr/>
          <p:nvPr/>
        </p:nvPicPr>
        <p:blipFill>
          <a:blip r:embed="rId2"/>
          <a:stretch/>
        </p:blipFill>
        <p:spPr>
          <a:xfrm>
            <a:off x="3995640" y="5589720"/>
            <a:ext cx="1170000" cy="8776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2"/>
          <p:cNvSpPr/>
          <p:nvPr/>
        </p:nvSpPr>
        <p:spPr>
          <a:xfrm>
            <a:off x="5435640" y="573408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at the Englis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33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042920" y="981000"/>
            <a:ext cx="43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Arial"/>
              </a:rPr>
              <a:t>Let’s match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3ddde47ac664b7ad977fa92beabff8f0"/>
          <p:cNvPicPr/>
          <p:nvPr/>
        </p:nvPicPr>
        <p:blipFill>
          <a:blip r:embed="rId1"/>
          <a:stretch/>
        </p:blipFill>
        <p:spPr>
          <a:xfrm>
            <a:off x="6300720" y="260280"/>
            <a:ext cx="2016360" cy="2016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971640" y="2349360"/>
            <a:ext cx="27352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sette rec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ction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b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5724360" y="2276640"/>
            <a:ext cx="324036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ransla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dra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ri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re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liste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play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clea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atch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1403280" y="602136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I need __________ for 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826920" y="69228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et’s complet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4cda5503d5f85810b7cdce4b8154490c"/>
          <p:cNvPicPr/>
          <p:nvPr/>
        </p:nvPicPr>
        <p:blipFill>
          <a:blip r:embed="rId2"/>
          <a:stretch/>
        </p:blipFill>
        <p:spPr>
          <a:xfrm>
            <a:off x="6227640" y="33336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971640" y="1628640"/>
            <a:ext cx="741672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at, read, we, Russian, usually, les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like, the break, to play, we, du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many,  are, our, in, there, desk, classroom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bag, I, different, have, my, paints, 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English, from, translate, into, usually, we, Russia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826920" y="260280"/>
            <a:ext cx="46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t’s translat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f472a72d975bcc792f4889b06846bb0c"/>
          <p:cNvPicPr/>
          <p:nvPr/>
        </p:nvPicPr>
        <p:blipFill>
          <a:blip r:embed="rId2"/>
          <a:stretch/>
        </p:blipFill>
        <p:spPr>
          <a:xfrm>
            <a:off x="6443640" y="18900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468360" y="1700280"/>
            <a:ext cx="4897440" cy="29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rom English into Russi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teacher’s ques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 so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the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ell the fairy-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468360" y="4221000"/>
            <a:ext cx="3959280" cy="33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rom Russian into Englis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вать 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тать текс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говаривать по-англий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ь наизу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овать карт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5076720" y="2133720"/>
            <a:ext cx="35989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сать с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чать на вопросы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ть пес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суждать пробл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сказывать сказ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5076720" y="4653000"/>
            <a:ext cx="3888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ques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tex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ak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rn by he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 pi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468360" y="18900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24000" y="836640"/>
          <a:ext cx="5397480" cy="536400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39640"/>
                <a:gridCol w="540000"/>
                <a:gridCol w="539640"/>
                <a:gridCol w="539640"/>
                <a:gridCol w="540000"/>
              </a:tblGrid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Text Box 136"/>
          <p:cNvSpPr/>
          <p:nvPr/>
        </p:nvSpPr>
        <p:spPr>
          <a:xfrm>
            <a:off x="6588000" y="907920"/>
            <a:ext cx="201636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b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0T11:07:19Z</dcterms:created>
  <dc:creator>Natalia</dc:creator>
  <dc:description/>
  <dc:language>en-US</dc:language>
  <cp:lastModifiedBy>-</cp:lastModifiedBy>
  <dcterms:modified xsi:type="dcterms:W3CDTF">2013-04-29T21:10:14Z</dcterms:modified>
  <cp:revision>16</cp:revision>
  <dc:subject/>
  <dc:title>Слайд 1</dc:title>
</cp:coreProperties>
</file>